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ED09-2CE4-4BDA-8978-C85590BB9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9C25-7736-4C50-83D2-E399CE3E5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EE8D-69F8-4F32-BD8E-62C3F3DEE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15DE-C9C0-46BC-A596-FAF678B93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B00F-D6AA-4E94-8B5A-FAD97CCCB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2C70-71CA-4412-9A31-D60B01BE0C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60B3-04D8-4ED5-A3C4-AB209A373D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25C4-41FB-4DB8-9E3A-2D30D1D6E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CEA0-0A10-40A0-A7EF-76D35B71F0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9598-5BEC-4476-A33E-63142C017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ED4D-662D-4A71-8F74-94E7C8D825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87FB-5CBD-47F5-AFAB-6F27BD5238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209D-8469-481E-A14C-8A3944D0B7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F591-5D81-4D89-81AD-64CFE3BCAD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2416-CDBA-4647-8EE8-B716BBAC91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2C07-50A0-4C9E-BF71-86AF428378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A354-9130-49DE-AB42-62B75FFEDB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9054-7C48-4964-8CFD-9D3C8135E7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F85-5A35-466E-A6AB-AB4246EC20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43A-9624-4E49-B62C-CFD873201E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A63-A17E-4950-912F-18E809FA4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6461-7BAF-458A-894C-954EFF6821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454-6FF6-4F2C-9585-A8EF6932A9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BD9-4FA5-4E69-B10D-61C3CA0AEE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391-1221-4E95-8482-DACE40025F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790-34F3-4661-AE47-CB407FB0D2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A56-4908-441F-8CB0-66EF094466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51A-FF58-4FD6-A4BA-B3FEF30AE6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A31-1F04-4345-ABBD-9842D9045A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16F-E419-4CF2-B534-FB1A63A0BE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321-18AC-4A98-B020-4ED85CD340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667F2-C68A-4690-90FC-F48589411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1AD4-B34F-484A-8D4A-3A67607D0F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6CDD3-69A7-41E4-A784-8AE19D7F68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7CB06-7FFB-47D2-A5C6-8DBDB81EBB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1FB7-BC7E-4777-8FDD-B4E1CFC099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53A7-31DD-48A8-8C5F-9C5DE3AAF4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0A20-8653-4C5A-B3A9-C1BEA0C71D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5EF8-F9A2-482D-9069-51B69E0002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32FE2-5397-4898-922C-DA33DDE753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59934-9C09-4DD1-BF84-56E3387C29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4732-DFBC-4B70-86FE-287C2B030B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D196-C19D-44D1-8214-625775030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5A97-5217-4483-8593-A5B5BBC9B3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E52E1-8987-4FE7-AAB1-F05729469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1C6D-0A26-4024-A30F-DA2694612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12AD-D19E-4CC7-86AE-6651BADAB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8F5D-B155-481F-9A5F-3B1D5B2EB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1F8-9E5C-4EFC-B186-B77636CF07D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9DE-24A0-454C-B543-8627412C510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E062-F41B-41D7-9CC4-9CE86188E44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5AC3-D5AE-4B42-B27B-BF22EA18C29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62240"/>
            <a:ext cx="498132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447920" y="1425600"/>
            <a:ext cx="664344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 Box 6"/>
          <p:cNvSpPr/>
          <p:nvPr/>
        </p:nvSpPr>
        <p:spPr>
          <a:xfrm>
            <a:off x="914400" y="56167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fter you have spent time editing a template, protect it from accidental or deliberate changes. Unlock cells that will require data entry by the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90720" y="2438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Protect Sheet command is on the Review tab. You can allow several types of edits in the Protect Sheet dialog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19440" cy="42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1109520" y="1676520"/>
            <a:ext cx="567000" cy="56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533520" y="2092320"/>
            <a:ext cx="215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emplates have the same properties as workbooks, including the thumbnail image and custom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2641680" y="1523880"/>
            <a:ext cx="61974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352680" y="1835280"/>
            <a:ext cx="543888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Text Box 6"/>
          <p:cNvSpPr/>
          <p:nvPr/>
        </p:nvSpPr>
        <p:spPr>
          <a:xfrm>
            <a:off x="525600" y="1941480"/>
            <a:ext cx="267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hen you save an Excel template, it is automatically stored in a Templates folder. The name appears in the My templates group in Backstag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8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684-358B-4DE3-A5F2-38E76700A38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nline Microsoft Template Gallery includes many professionally prepared templates in several catego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download a copy of any of these templates from Microsoft Office On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download as regular workbooks that you can edit and sav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py of the template is saved in your My Templates folder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0" name="Rectangle 4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753320" cy="84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1498680" y="1371600"/>
            <a:ext cx="66038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4" name="Title 5" descr=""/>
          <p:cNvPicPr/>
          <p:nvPr/>
        </p:nvPicPr>
        <p:blipFill>
          <a:blip r:embed="rId2"/>
          <a:stretch/>
        </p:blipFill>
        <p:spPr>
          <a:xfrm>
            <a:off x="2871720" y="2749680"/>
            <a:ext cx="6583320" cy="1511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6F2-E083-4359-A992-886B7FE369D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4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277120" cy="846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914400" y="1555920"/>
            <a:ext cx="7748640" cy="39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Box 5"/>
          <p:cNvSpPr/>
          <p:nvPr/>
        </p:nvSpPr>
        <p:spPr>
          <a:xfrm>
            <a:off x="1397160" y="55818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macro-enabled template has an </a:t>
            </a: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xltm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file name extension. Using macros in a template is no different from using them in a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4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277120" cy="846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358040" cy="44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TextBox 6"/>
          <p:cNvSpPr/>
          <p:nvPr/>
        </p:nvSpPr>
        <p:spPr>
          <a:xfrm>
            <a:off x="1066680" y="5791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orksheet protection can be added with a password. This affects edits to the original template, not a workbook created from the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3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8448480" cy="467532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5EDB-0DB9-410E-AB02-283336F1C88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3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935-6993-4425-915D-52558712050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ProtectWorkbook"/>
          <p:cNvPicPr/>
          <p:nvPr/>
        </p:nvPicPr>
        <p:blipFill>
          <a:blip r:embed="rId2"/>
          <a:stretch/>
        </p:blipFill>
        <p:spPr>
          <a:xfrm>
            <a:off x="5118120" y="2430360"/>
            <a:ext cx="3511440" cy="259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Text Box 7"/>
          <p:cNvSpPr/>
          <p:nvPr/>
        </p:nvSpPr>
        <p:spPr>
          <a:xfrm>
            <a:off x="533520" y="137160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book protection includes the structure and th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inserting, deleting, moving, renaming, and hiding work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resizing, moving, and closing th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89040" y="2352600"/>
            <a:ext cx="816444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0" name="TextBox 2"/>
          <p:cNvSpPr/>
          <p:nvPr/>
        </p:nvSpPr>
        <p:spPr>
          <a:xfrm>
            <a:off x="1447920" y="150192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template or a workbook with both worksheet and workbook protection results in a restricted work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is a model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mplates are stored in special folders and open as copies of the origina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cludes sample templates that can be opened, edited, and sav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143000" y="16765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create a workbook from a template, the new workbook is named with the template name and a nu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Save As command to save the template with an appropriate fi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a workbook from any template, edit it, and save it as your own template with a different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Locked property is a setting that controls whether or not a cell or object can be edited. This property works with the Protect Sheet comm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use worksheet protection, the user cannot edit or change cells or objects unless they have been unlock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crosoft Office Online maintains a gallery of professionally designed templates for each product in the Office suite including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cord macros in a template. The workbook must be saved as a macro-enabled templ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emplate has 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xlt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-enabled template has 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xlt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book protection prevents the user from resizing or moving windows and from adding, deleting, or changing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ssign a password to a protected worksheet o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D01-EAB1-439E-8725-8884694ED31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5998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model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can include labels, values, formatting, range names, formulas, comments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is often used for routine, repetitive documents that have slight variation from day to day, week to week, or month to month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520560" y="2252520"/>
            <a:ext cx="245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Sample templates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re professionally prepared templates placed in a Templates folder when Excel is inst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5902200" cy="44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Ne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Sample templa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the preferred templ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it the new workbook as nee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941400" y="2401920"/>
            <a:ext cx="762624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TextBox 3"/>
          <p:cNvSpPr/>
          <p:nvPr/>
        </p:nvSpPr>
        <p:spPr>
          <a:xfrm>
            <a:off x="1687680" y="1295280"/>
            <a:ext cx="646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workbook created from a sample template is initially named with the template name and a number as in ExpenseReport1. You can save it with another fi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6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6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1FB-9695-4E9B-99B8-C01A9B6D1FE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905120" y="129528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user template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s one that you can create. Start with a sample template or a blank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700280" y="2133720"/>
            <a:ext cx="5995800" cy="41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2:57Z</dcterms:modified>
  <cp:revision>74</cp:revision>
  <dc:subject/>
  <dc:title>Microsoft office</dc:title>
</cp:coreProperties>
</file>